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CFD-35FB-4E33-A351-D8B1B448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EC4-F7AE-4CD1-9424-14F9951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4C9-9783-4797-B832-89E8FF9C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1E5-A625-4423-AA0D-3BA7C4EB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DB1-4459-40DB-8AB0-B19BE6A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CD2-EBB3-4F74-BFC3-61DB5A3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587-215C-40C1-81D5-668D244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33A-0265-4274-9A3B-6B432E1B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1FE-D209-4AD9-9A09-7585710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288-D1BF-4E22-AB11-EFB6B54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36F-1504-4C06-B551-17A02A7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8F0-062A-4E5D-B323-8632F27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FD7B1-13A4-48DC-9A69-C6491DC1C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9E24A-2A69-4C57-9824-57678AA0C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What is a cycle?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are phytoplankto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198360"/>
            <a:ext cx="785664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1260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alibri"/>
              </a:rPr>
              <a:t>2.8 Oxygen Cycle Class Notes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rcRect l="-99" t="0" r="-2658" b="0"/>
          <a:stretch/>
        </p:blipFill>
        <p:spPr>
          <a:xfrm>
            <a:off x="604800" y="355680"/>
            <a:ext cx="5141880" cy="460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3819600" y="4680000"/>
            <a:ext cx="532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lants produce oxygen during photo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rcRect l="-99" t="0" r="-2658" b="0"/>
          <a:stretch/>
        </p:blipFill>
        <p:spPr>
          <a:xfrm>
            <a:off x="604800" y="355680"/>
            <a:ext cx="5141880" cy="4608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3819600" y="4680000"/>
            <a:ext cx="532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imals take oxygen out of the air during cellular respir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es cellular respiration produce oxygen or use oxygen up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es photosynthesis produce oxygen or use oxygen up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 of Phytoplank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Phytoplankton produce oxygen during photosynthesi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 phytoplankton produce oxygen or use oxygen up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 animals take oxygen out of the air or put oxygen into the ai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is process called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inish Water Cycle LP or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Oxygen Cycl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Guided Practice – Team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dependent Practice –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 plants take oxygen out of the air or put oxygen into the ai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is process called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 phytoplankton take oxygen out of the air or put oxygen into the ai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700" spc="-1" strike="noStrike" u="sng">
                <a:solidFill>
                  <a:srgbClr val="000000"/>
                </a:solidFill>
                <a:uFillTx/>
                <a:latin typeface="Calibri"/>
              </a:rPr>
              <a:t>2.8 Independent Practic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on your weekly homework sheet.   Start working on completing the sections on the water cycle and the oxygen cy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fter today, you will be able to explain the oxygen cycle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0% Mastery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ig Ideas of Science – Systems and system mode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e Well Organiz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a gas changing into a liquid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a liquid changing into a gas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water evaporating from plants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of the water cycle that involves water falling from clouds is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1. What is photosynthesis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2. What is cellular respiration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3:06:11Z</dcterms:created>
  <dc:creator>Caroline Roth</dc:creator>
  <dc:description/>
  <dc:language>en-US</dc:language>
  <cp:lastModifiedBy>Caroline Roth</cp:lastModifiedBy>
  <dcterms:modified xsi:type="dcterms:W3CDTF">2010-09-22T13:53:56Z</dcterms:modified>
  <cp:revision>10</cp:revision>
  <dc:subject/>
  <dc:title>Slide 1</dc:title>
</cp:coreProperties>
</file>